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0011-F8CA-47FA-8DCB-30D80342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081-13E0-4846-89A9-13A484785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8EF4-1E57-4162-B946-5738BDAA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60F-9BB6-4217-9D94-C6771F9F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B285-53A0-4461-AE15-A670B465A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CF94-5C9D-4C51-B4E9-AEF3FC9D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B094-4101-4570-ACB9-49C9AD28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48C-708E-42F2-B05B-0FDED3B1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DB1-2375-431E-BECC-E46F8B78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769-9532-4ECB-9BCB-A3A2CEAC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49D9-9ABD-4180-9658-79BEB5ED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B3A1-023B-4824-9A79-6B872BAD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AAD-AF9F-423F-97FA-FE5C3363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075-9097-4B06-AB35-FC9C7964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AD0C-6942-453C-86C6-B8AAA4BF7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350D-88A6-4CD1-8762-97F9F7F2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A99-EB31-44D4-B4C6-7230E61E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DD67-FC61-4F73-8D7C-6E30DF1D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5989-251D-42EC-A26D-EE86A32D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A75D-F8C9-46C5-8F45-5BC93ED3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D028-AA54-4B1F-BA6B-6C5F4A3D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B70F-AC99-4018-B20B-62648837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1DB8-B427-4E66-B443-01D6A1EE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E213-D973-418F-8AFF-4B1028B3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40B-F2C9-4678-9F96-3D874A28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571-4460-40F5-91BC-A04A12FA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BE2-25C6-412D-BEF4-A7D30C8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1F7-BEC8-4EB3-806E-1C12FDB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B7E-48B7-4A24-AD98-74813B43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AB8-CA99-48F8-A282-35E9FDC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ECD-690B-4234-846B-B072151F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F95-703D-4078-865E-37B57620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B78-949D-4D18-B875-C1A78882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7E4-A30F-418F-B6D5-CDA28DF3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6CC-DAF1-4E27-AF9C-6F5A0206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2F0-6B14-4754-86C2-558ED63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F84-25C2-4F18-81B0-FF4D48F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5E9-04C6-415D-AA96-96D8B370B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laliteracy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ITE: Striving for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xcellence in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Li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eracy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cher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ucation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457200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elaliterac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ry.shiel@erc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UKLA – Literacy Content Knowled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he social context of literacy learn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the different patterns of literacy and different expectations of literacy learning in different social grou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he nature of the orthography involv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since, for example,  the complexity of English precludes a simple phonic entry to written langu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ing on scre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oth manipulation of text and also the changing relation of verbal text to images, both still and mov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ildren’s conceptions of themselves as reader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is materially influences how they approach the task and how effective they become as read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ing substantial whole tex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ing attention to the structure of texts of different genres, differences between written and spoken langu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itical literac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all those involved in literacy teaching should aim to help children towards becoming much more than consumers of writte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Competencies Are Important for Reading Teache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2876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knowledgeable in key aspects of reading literacy (content knowledge and pedagogic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characteristics of effective classroom environments and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herent, differentiated programme (sensitivity to individual dif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e student self-regulation (meta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skills teaching within a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hasise formative assessme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DAB-8D48-4279-8120-D0B07F25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IRA Professional Development Standa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iagram of five standards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the most important competencies for reading teachers, and how do these vary across grade levels (kindergarten, lower-primary, upper-primary), languages, and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content of reading curricula in schools and how was this content decided on? What research informs us on how well this is tau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content of teacher education courses and how is this decided?  (e.g., government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Ques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at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 the relationship between coursework and fieldwork in reading teacher education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is preservice reading teacher education linked to induction and in-career development in participating countries? (Lifelong learning dimens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closely do governmental agencies specify the content and pedagogy of school literacy teaching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re teacher educations of litracy teachers trained for their jobs? Do they specialise in teaching reading or other areas (literature, language, wri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courses in teacher education have to meet detailed requirements from governmental agencies?  (Autonomy, ow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content and pedagogical knowledge of preservice reading teachers evalu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o the experiences of schools inform the preparation of teachers of read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ject Adore – Lessons Learn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ing Adolescent Struggling Readers – A Comparative Study of Good Practice in European Countries (Christine Gar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‘s Rights Perspective \ Legal entitlement to appropriate instruction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mphasis on affect (motivation /engag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Administrator &amp; External Advi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acher Development Study– Four-Level Mo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tional Education Systems as They Relate to Preparation of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Institutionally Intended Curricula and Competencies for Literacy Tea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Learning goals and conten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Literacy content knowledg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Pedagogical content knowledge for literacy teach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General pedagogic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Development Study– Four-Level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5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eacher Educators’ Concepts and Beliefs about Key Aspects of Literacy Education and their Self-Efficacy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erspectives of Schools on Reading Teacher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81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icula and Compet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 Educators’ Concepts and Beli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es of School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naire for Teacher Educa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s with School-based Personnel  who support new teachers to teach litera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d Questionnaire for ‘National Expert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s/Focus Groups w/ Teach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s/ Focus grou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xt of th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est in the issue among FELA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paration of reading teacher educators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emphasised in current international studies that include reading literacy (PIRLs, PI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urydice Studies of Teacher Education (2007) and  Teaching Reading Literacy (ongoing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long Learning Programme 2008-2010 Strategic Priorities – include literacy, teacher train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tive Analysis of Curricula and Programmes for Preparing Teachers of Lite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elines for Development of Pre-service Courses for Literacy Teacher Cour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encies for Teaching Aspects of Literacy (reading, writing, language, lit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studies on selected topics – e.g. Innovative practices; Developing literacy skills across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on selected topics – e.g. European  research on teaching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g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line:  Feb 26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: Comenius Multilatera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jec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. Comenius Multilatera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number of countries = 3 (Project or 6 (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tion: Three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per year €150,000 but max of €300,000 (75% con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of FELA? (Can’t be co-ordinating organ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for participation of some non-Lifelong Learning Programme countries (‘partner’ 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gistics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ing organisation/instit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ipating organisations? (combination of research institutes, universities engaged in teacher preparation in literacy, and national and international literacy associations with a focus on teach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ility of includ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ch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have a defined role in teacher prepa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orum for reflection and co-operation in identifying and promoting innovation and best practice in the thematic area conce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in activities to promote reflection and best practice in the thematic area concerned, including comparative analysis, case studies, organise seminars, working grou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 an annual meeting of Comenius projects working in the thematic area of the network (e.g., open seminar or confere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nius Multi-later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Listening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xt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sbon Goal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Improving the Quality of Teacher Education. . . Reducing the Percentage of Students with Low Literacy Levels at age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logne Accord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Comparability of Qualifications acros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ni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specific reference to reading literacy in call for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ck of international resear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Study by IRA Reading Teacher Education Task Force – 3 of 298 published studies were non-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A64-E375-4C9E-BD2E-35D118C5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we know how to teach teachers of read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(Hoffman &amp; Pearson, 2000) . . . But research is prom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long as the outcomes can be specified and the context controlled, training serves our needs. .. . But the reality of teaching is one of constantly changing conditions with fairly abstract and even ambiguous 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flec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curs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alogic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2A9-32D1-4CFD-8E97-EC8267F9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are teachers importa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eacher effectiveness has concluded that . 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are the single most important factor that determines students’ level of achievement (e.g., Berliner, 1994; Knapp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effective teachers share similar characteristics (International Reading Association, 2000; Ruddell, 199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 quality and expertise consistently and accurately predict achievement (Darling-Hammon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ritical Analysis of Research on Reading Teacher Edu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sis of 82 studies from a pool of 2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ing teacher preparation programmes have been successful in changing prospective teachers’ knowledge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vidence that pedagogical knowledge influenced teacher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sko et al. (2008)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ew suggests that university courses practices that benefits pedagogical knowledge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explicit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demonstration of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pplication of  practice in practicum       settings with pup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ntensity of programmes adequ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quality of man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ypothesizing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400" y="1714680"/>
            <a:ext cx="3143160" cy="2071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 Knowledge / Competencies/Self-effic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643280" y="1857240"/>
            <a:ext cx="2428920" cy="1068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room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357800" y="4000680"/>
            <a:ext cx="3571920" cy="15562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 Learning Outcomes / Growth in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7"/>
          <p:cNvCxnSpPr/>
          <p:nvPr/>
        </p:nvCxnSpPr>
        <p:spPr>
          <a:xfrm>
            <a:off x="3643200" y="2428920"/>
            <a:ext cx="92952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Straight Arrow Connector 10"/>
          <p:cNvCxnSpPr/>
          <p:nvPr/>
        </p:nvCxnSpPr>
        <p:spPr>
          <a:xfrm flipH="1">
            <a:off x="5714640" y="2999880"/>
            <a:ext cx="216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TextBox 11"/>
          <p:cNvSpPr/>
          <p:nvPr/>
        </p:nvSpPr>
        <p:spPr>
          <a:xfrm>
            <a:off x="428760" y="4429080"/>
            <a:ext cx="3357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rvice Teacher Training + Other Relevant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3"/>
          <p:cNvCxnSpPr>
            <a:stCxn id="70" idx="0"/>
          </p:cNvCxnSpPr>
          <p:nvPr/>
        </p:nvCxnSpPr>
        <p:spPr>
          <a:xfrm flipV="1">
            <a:off x="2105640" y="3786120"/>
            <a:ext cx="370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5BC-6648-4746-930E-D73395E4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neral teaching competencies vs. Reading teacher competen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000080" y="2571840"/>
            <a:ext cx="6265800" cy="33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1763640" y="3573360"/>
            <a:ext cx="4537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43280" y="27147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teaching 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00360" y="42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encies for teaching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219640" y="3645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eaching and Learn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1:16:08Z</dcterms:created>
  <dc:creator>Gerry Shiel</dc:creator>
  <dc:description/>
  <dc:language>en-US</dc:language>
  <cp:lastModifiedBy>Gerry Shiel</cp:lastModifiedBy>
  <dcterms:modified xsi:type="dcterms:W3CDTF">2010-07-20T17:09:18Z</dcterms:modified>
  <cp:revision>59</cp:revision>
  <dc:subject/>
  <dc:title>Slide 1</dc:title>
</cp:coreProperties>
</file>